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49BA1-216D-467D-8C51-7D0B663BD3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B2BC9-592E-41C6-8FBB-A5E0633B0B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7DC4E-5A77-4792-A7CA-9E63ACD7DD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21F85-F425-4DEA-82BF-D89680D60B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6A972-B0EE-4939-84C9-C3E851088C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71B9C-AF57-4996-8460-6F46FB20FD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A444C-B8BB-485C-AD43-7E0CC59CF0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6AC1A-06D9-4C8A-92A0-74CA95B0E0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25C1F-C823-415D-BB9E-D7961175E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DD682-B278-47B6-A2E1-8FDE93FB6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AF086-7B9A-4B69-8E78-0B4819BFD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5724B-76C6-45D0-976C-298757387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08B56-5275-4063-808E-344878E8A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03E58-76B3-46FF-AA8E-FFD29E5E9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DB71B-6B47-4C5F-9248-2CAA93816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4B1FB-56E3-4599-A4E0-17F2591E8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891C2-A9CB-48E4-A783-FC7A4E6EC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766C2-834A-4B3F-97FC-4F90567D4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4CFA5-1688-42B4-A51A-8C98C3D32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F4D6B-250C-4831-A5D3-CCFAB2EA7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7A8DC-0099-4363-8F63-100206C77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20DE5-8601-4166-97E2-1231468F3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9E658-A6D9-4000-8666-9EF1D8A9F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71058-9FFE-4684-937F-3FA7C2530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FCD43-41C0-4340-9BB7-3C099BE76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D00457-F9C1-4EC2-8B47-8AF80C612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022648-F2AD-4E14-A745-D78A3F559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C203A2-3BF5-495E-9437-E12AE9F7D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5ADF82-C58A-42CD-A3FF-7028FB25F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B679F9-0658-4A6B-AA9F-B3A46BC22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BAA7F-1774-4928-B62F-6F5EFF5BE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2E853A-022A-46D0-9DDD-D2D040E26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A71388-BDDB-4E3C-943D-CC048DEEE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7F0203-D46B-4ED3-AAC7-795CC8340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D7FB60-AA61-4735-B007-A17547610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054315-BA70-41A0-9FD5-3DC83472D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1775B8-A770-435D-82B8-605C952D7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B151D5-B3FF-4E69-82ED-35C773C6F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27E534-B6D4-40AC-B776-9100856D2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7DD2FE-93D1-41EF-BB7E-164B6E509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094B05-1351-45FA-BC3D-93C8F8752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AC930-A457-49D3-9017-0EE4DE969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6E2A88-4A9F-4A8A-A338-271C02324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6CCB1E-65AB-4321-9211-5E341BF76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DE9EBD-D166-4A0D-ACD3-60E64C572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88BACD-4295-432E-89E3-4D55D2858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9BD11E-E6C2-4325-BCD1-3C88256F9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B8AED6-881C-458F-BC50-40627547C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211198-8C74-471C-B813-86D86D051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471442-ABA6-41B7-8E2B-27C3DD547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CA2789-AAC9-42DA-8FEA-48F9F9A0F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FDE550-A5F0-4456-8BC2-5460442CE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DDB6C-9330-4058-8D72-CFC2E2781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490368-3874-44A7-A28F-B0694DE26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FD0602-AB56-4B51-9705-02A3B947A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8A6C11-7EAA-4C9B-AEB1-710CA8B01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B8528B-647D-4150-82DB-9032E0322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BF4487-D57D-4FBF-A447-016701EEC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548A21-AAE7-44D9-AB0B-959641B2E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5373F7-7370-452E-A799-B166AD13F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031828-0F61-4A70-A278-9E03BE33D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F157F3-77D6-4380-AAAB-E77417DD8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B9D9C1-DA77-4A14-B8BF-2DDFF7645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3C3F1-ECAA-477F-9543-13892B8F2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976A88-4803-4E2D-8488-7452B0786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7DB53-E18A-4B61-858D-65DCAF229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C0366-3360-4289-9A14-CEC407520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EA5EE-E2DA-44E9-A6B6-1D54A6356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1" name="Rectangle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8E80B-9AFB-42EF-9863-045DF2C65081}" type="slidenum">
              <a:rPr b="0" lang="en-US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ectangle 7"/>
          <p:cNvGrpSpPr/>
          <p:nvPr/>
        </p:nvGrpSpPr>
        <p:grpSpPr>
          <a:xfrm>
            <a:off x="2670120" y="0"/>
            <a:ext cx="6473880" cy="6858000"/>
            <a:chOff x="2670120" y="0"/>
            <a:chExt cx="6473880" cy="6858000"/>
          </a:xfrm>
        </p:grpSpPr>
        <p:pic>
          <p:nvPicPr>
            <p:cNvPr id="45" name="Rectangle 7" descr=""/>
            <p:cNvPicPr/>
            <p:nvPr/>
          </p:nvPicPr>
          <p:blipFill>
            <a:blip r:embed="rId3"/>
            <a:stretch/>
          </p:blipFill>
          <p:spPr>
            <a:xfrm>
              <a:off x="2673000" y="0"/>
              <a:ext cx="64706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70120" y="0"/>
              <a:ext cx="64738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Straight Connector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2089B-A6FD-4002-94D5-3E63E6AD8A4B}" type="slidenum">
              <a:rPr b="0" lang="en-US" sz="11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Rectangle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90" name="Rectangle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A5AD4-4F7B-46AD-820B-D3053105F202}" type="slidenum">
              <a:rPr b="0" lang="en-US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4e7ed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03F95-7458-44EF-88E4-CEED6BE23894}" type="slidenum">
              <a:rPr b="0" lang="en-US" sz="1100" spc="-1" strike="noStrike">
                <a:solidFill>
                  <a:srgbClr val="f4e7ed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Rectangle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177" name="Rectangle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47F27-9003-41B0-929C-DD5A8704B898}" type="slidenum">
              <a:rPr b="0" lang="en-US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Title 1" descr=""/>
          <p:cNvPicPr/>
          <p:nvPr/>
        </p:nvPicPr>
        <p:blipFill>
          <a:blip r:embed="rId1"/>
          <a:stretch/>
        </p:blipFill>
        <p:spPr>
          <a:xfrm>
            <a:off x="3365640" y="536400"/>
            <a:ext cx="5522760" cy="3194280"/>
          </a:xfrm>
          <a:prstGeom prst="rect">
            <a:avLst/>
          </a:prstGeom>
          <a:ln w="0">
            <a:noFill/>
          </a:ln>
        </p:spPr>
      </p:pic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3354480" y="3540240"/>
            <a:ext cx="5114880" cy="11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3221 INTRO TO LITERATURE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Prof. Everson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1"/>
          <p:cNvSpPr/>
          <p:nvPr/>
        </p:nvSpPr>
        <p:spPr>
          <a:xfrm>
            <a:off x="457200" y="380880"/>
            <a:ext cx="6934320" cy="67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ome stories that are 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chronological order 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may also contain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rebuchet MS"/>
              </a:rPr>
              <a:t>hints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 or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rebuchet MS"/>
              </a:rPr>
              <a:t>clues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 about what will happen l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rebuchet MS"/>
              </a:rPr>
              <a:t>foreshadowing: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  uses action or mood to prepare the reader for something that will happen later in the work – many stories prepare readers or listeners for a death or something tragic or horrific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ometimes the foreshadow is subtle and easily missed; other writers use the element of surprise by misleading rea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Title 1" descr=""/>
          <p:cNvPicPr/>
          <p:nvPr/>
        </p:nvPicPr>
        <p:blipFill>
          <a:blip r:embed="rId1"/>
          <a:stretch/>
        </p:blipFill>
        <p:spPr>
          <a:xfrm>
            <a:off x="30240" y="60480"/>
            <a:ext cx="7443720" cy="101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Title 1" descr=""/>
          <p:cNvPicPr/>
          <p:nvPr/>
        </p:nvPicPr>
        <p:blipFill>
          <a:blip r:embed="rId1"/>
          <a:stretch/>
        </p:blipFill>
        <p:spPr>
          <a:xfrm>
            <a:off x="212760" y="324000"/>
            <a:ext cx="7486560" cy="1431720"/>
          </a:xfrm>
          <a:prstGeom prst="rect">
            <a:avLst/>
          </a:prstGeom>
          <a:ln w="0">
            <a:noFill/>
          </a:ln>
        </p:spPr>
      </p:pic>
      <p:sp>
        <p:nvSpPr>
          <p:cNvPr id="261" name="Rectangle 1"/>
          <p:cNvSpPr/>
          <p:nvPr/>
        </p:nvSpPr>
        <p:spPr>
          <a:xfrm>
            <a:off x="457200" y="380880"/>
            <a:ext cx="6934320" cy="63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The highest point of action; the point of no return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In traditional tales it is the final moment of confrontation or strugg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Answers: what happens to the protagonist (win or lose?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ometimes stories end just at or after the climax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Title 1" descr=""/>
          <p:cNvPicPr/>
          <p:nvPr/>
        </p:nvPicPr>
        <p:blipFill>
          <a:blip r:embed="rId1"/>
          <a:stretch/>
        </p:blipFill>
        <p:spPr>
          <a:xfrm>
            <a:off x="244440" y="298440"/>
            <a:ext cx="7478640" cy="1420920"/>
          </a:xfrm>
          <a:prstGeom prst="rect">
            <a:avLst/>
          </a:prstGeom>
          <a:ln w="0">
            <a:noFill/>
          </a:ln>
        </p:spPr>
      </p:pic>
      <p:sp>
        <p:nvSpPr>
          <p:cNvPr id="263" name="Rectangle 1"/>
          <p:cNvSpPr/>
          <p:nvPr/>
        </p:nvSpPr>
        <p:spPr>
          <a:xfrm>
            <a:off x="457200" y="380880"/>
            <a:ext cx="6934320" cy="591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All the loose ends are wrapped u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Explains the consequences of the climax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Answers the question: what finally happened to the protagoni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ometimes – there is not resolution, or minimal wrapping u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Title 1" descr=""/>
          <p:cNvPicPr/>
          <p:nvPr/>
        </p:nvPicPr>
        <p:blipFill>
          <a:blip r:embed="rId1"/>
          <a:stretch/>
        </p:blipFill>
        <p:spPr>
          <a:xfrm>
            <a:off x="60480" y="122400"/>
            <a:ext cx="7486560" cy="1011240"/>
          </a:xfrm>
          <a:prstGeom prst="rect">
            <a:avLst/>
          </a:prstGeom>
          <a:ln w="0">
            <a:noFill/>
          </a:ln>
        </p:spPr>
      </p:pic>
      <p:sp>
        <p:nvSpPr>
          <p:cNvPr id="230" name="TextBox 2"/>
          <p:cNvSpPr/>
          <p:nvPr/>
        </p:nvSpPr>
        <p:spPr>
          <a:xfrm>
            <a:off x="228600" y="914400"/>
            <a:ext cx="746748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Narrative – is what happe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Plot: the relation of those events to each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         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other and the charac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. M. Forst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rmulated the difference most memorably. He observed that if we write “The king died, and the queen died,” we have a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arrativ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but if we write, instead, “The king died, and the queen died of grief,” then we have a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lo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spects of the Novel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192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Box 2"/>
          <p:cNvSpPr/>
          <p:nvPr/>
        </p:nvSpPr>
        <p:spPr>
          <a:xfrm>
            <a:off x="228600" y="6176880"/>
            <a:ext cx="792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 Adapted from: “Plot” by Robert Montenegro at http://litera1no4.tripod.com/plot_frame.htm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Title 1" descr=""/>
          <p:cNvPicPr/>
          <p:nvPr/>
        </p:nvPicPr>
        <p:blipFill>
          <a:blip r:embed="rId1"/>
          <a:stretch/>
        </p:blipFill>
        <p:spPr>
          <a:xfrm>
            <a:off x="212760" y="152280"/>
            <a:ext cx="7486560" cy="1146240"/>
          </a:xfrm>
          <a:prstGeom prst="rect">
            <a:avLst/>
          </a:prstGeom>
          <a:ln w="0">
            <a:noFill/>
          </a:ln>
        </p:spPr>
      </p:pic>
      <p:sp>
        <p:nvSpPr>
          <p:cNvPr id="233" name="TextBox 2"/>
          <p:cNvSpPr/>
          <p:nvPr/>
        </p:nvSpPr>
        <p:spPr>
          <a:xfrm>
            <a:off x="228600" y="1219320"/>
            <a:ext cx="746748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c1f34"/>
                </a:solidFill>
                <a:latin typeface="Trebuchet MS"/>
              </a:rPr>
              <a:t>Plot 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establishes a link of cause between events.  And this, the making of connections, or designs, is the essence of storytellin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Narrative is simply a record of what happened. For narrative to become a plot it must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rebuchet MS"/>
              </a:rPr>
              <a:t>reveal its meaning 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in human term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Events only become interesting, which is to say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rebuchet MS"/>
              </a:rPr>
              <a:t>relevant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 to our understanding of life, when we see their effect upon people, or, in the case of fiction, upon character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Title 1" descr=""/>
          <p:cNvPicPr/>
          <p:nvPr/>
        </p:nvPicPr>
        <p:blipFill>
          <a:blip r:embed="rId1"/>
          <a:stretch/>
        </p:blipFill>
        <p:spPr>
          <a:xfrm>
            <a:off x="-12600" y="152280"/>
            <a:ext cx="7486560" cy="1073160"/>
          </a:xfrm>
          <a:prstGeom prst="rect">
            <a:avLst/>
          </a:prstGeom>
          <a:ln w="0">
            <a:noFill/>
          </a:ln>
        </p:spPr>
      </p:pic>
      <p:sp>
        <p:nvSpPr>
          <p:cNvPr id="235" name="TextBox 2"/>
          <p:cNvSpPr/>
          <p:nvPr/>
        </p:nvSpPr>
        <p:spPr>
          <a:xfrm>
            <a:off x="210960" y="990720"/>
            <a:ext cx="746784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Loose plot: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 The writer of fiction may not explain the connections between events and characters.  Sometimes the reader must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rebuchet MS"/>
              </a:rPr>
              <a:t>infer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 what that connection is: the reader must “figure it out.”  Some writers want the readers to work at it – where the reader has to assemble the plot him or herself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Tight plot: traditional stories are usually easy to follow the events – they have a very tight plot line with no gaps so a reader or listener does not need to guess the connections between ev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1"/>
          <p:cNvSpPr/>
          <p:nvPr/>
        </p:nvSpPr>
        <p:spPr>
          <a:xfrm>
            <a:off x="152280" y="914400"/>
            <a:ext cx="781236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he plot, or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rebuchet MS"/>
              </a:rPr>
              <a:t>storyline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  usually involves conflict and follows a particular pattern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rebuchet MS"/>
              </a:rPr>
              <a:t>Exposition: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 where action or conflict beg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rebuchet MS"/>
              </a:rPr>
              <a:t>Rising action: 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events that develop the conflic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rebuchet MS"/>
              </a:rPr>
              <a:t>Climax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: point of greatest emotional tens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rebuchet MS"/>
              </a:rPr>
              <a:t>Resolution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 or </a:t>
            </a:r>
            <a:r>
              <a:rPr b="0" i="1" lang="en-US" sz="2800" spc="-1" strike="noStrike">
                <a:solidFill>
                  <a:srgbClr val="000000"/>
                </a:solidFill>
                <a:latin typeface="Trebuchet MS"/>
              </a:rPr>
              <a:t>denouement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: where loose ends are wrapped u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!!Some works do not follow this pattern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Title 1" descr=""/>
          <p:cNvPicPr/>
          <p:nvPr/>
        </p:nvPicPr>
        <p:blipFill>
          <a:blip r:embed="rId1"/>
          <a:stretch/>
        </p:blipFill>
        <p:spPr>
          <a:xfrm>
            <a:off x="237960" y="139680"/>
            <a:ext cx="7729560" cy="10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Title 1" descr=""/>
          <p:cNvPicPr/>
          <p:nvPr/>
        </p:nvPicPr>
        <p:blipFill>
          <a:blip r:embed="rId1"/>
          <a:stretch/>
        </p:blipFill>
        <p:spPr>
          <a:xfrm>
            <a:off x="212760" y="212760"/>
            <a:ext cx="7937640" cy="101268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2" descr=""/>
          <p:cNvPicPr/>
          <p:nvPr/>
        </p:nvPicPr>
        <p:blipFill>
          <a:blip r:embed="rId2"/>
          <a:stretch/>
        </p:blipFill>
        <p:spPr>
          <a:xfrm>
            <a:off x="76320" y="1542960"/>
            <a:ext cx="7910280" cy="4629240"/>
          </a:xfrm>
          <a:prstGeom prst="rect">
            <a:avLst/>
          </a:prstGeom>
          <a:ln w="0">
            <a:noFill/>
          </a:ln>
        </p:spPr>
      </p:pic>
      <p:sp>
        <p:nvSpPr>
          <p:cNvPr id="240" name="TextBox 3"/>
          <p:cNvSpPr/>
          <p:nvPr/>
        </p:nvSpPr>
        <p:spPr>
          <a:xfrm rot="20395800">
            <a:off x="2239560" y="2222280"/>
            <a:ext cx="20970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ising 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Oval 5"/>
          <p:cNvSpPr/>
          <p:nvPr/>
        </p:nvSpPr>
        <p:spPr>
          <a:xfrm>
            <a:off x="76320" y="4952880"/>
            <a:ext cx="457200" cy="3812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Oval 6"/>
          <p:cNvSpPr/>
          <p:nvPr/>
        </p:nvSpPr>
        <p:spPr>
          <a:xfrm>
            <a:off x="685800" y="4419720"/>
            <a:ext cx="1371600" cy="3808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val 7"/>
          <p:cNvSpPr/>
          <p:nvPr/>
        </p:nvSpPr>
        <p:spPr>
          <a:xfrm>
            <a:off x="5410080" y="1905120"/>
            <a:ext cx="1371600" cy="3808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8"/>
          <p:cNvSpPr/>
          <p:nvPr/>
        </p:nvSpPr>
        <p:spPr>
          <a:xfrm>
            <a:off x="6705720" y="3581280"/>
            <a:ext cx="1371600" cy="3812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Box 9"/>
          <p:cNvSpPr/>
          <p:nvPr/>
        </p:nvSpPr>
        <p:spPr>
          <a:xfrm>
            <a:off x="0" y="5619600"/>
            <a:ext cx="22860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ising 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Box 4"/>
          <p:cNvSpPr/>
          <p:nvPr/>
        </p:nvSpPr>
        <p:spPr>
          <a:xfrm>
            <a:off x="609480" y="4362480"/>
            <a:ext cx="16002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10"/>
          <p:cNvSpPr/>
          <p:nvPr/>
        </p:nvSpPr>
        <p:spPr>
          <a:xfrm>
            <a:off x="3505320" y="1542960"/>
            <a:ext cx="1218960" cy="362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Box 11"/>
          <p:cNvSpPr/>
          <p:nvPr/>
        </p:nvSpPr>
        <p:spPr>
          <a:xfrm>
            <a:off x="5483160" y="1886040"/>
            <a:ext cx="17557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m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Box 12"/>
          <p:cNvSpPr/>
          <p:nvPr/>
        </p:nvSpPr>
        <p:spPr>
          <a:xfrm rot="3172800">
            <a:off x="6361200" y="3079800"/>
            <a:ext cx="17557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lling 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Box 13"/>
          <p:cNvSpPr/>
          <p:nvPr/>
        </p:nvSpPr>
        <p:spPr>
          <a:xfrm>
            <a:off x="7010280" y="4514760"/>
            <a:ext cx="19051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nou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14"/>
          <p:cNvSpPr/>
          <p:nvPr/>
        </p:nvSpPr>
        <p:spPr>
          <a:xfrm>
            <a:off x="1534680" y="1001880"/>
            <a:ext cx="522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ified Freytag’s Pyrami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Gustav Freytag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ramatic Technique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86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1"/>
          <p:cNvSpPr/>
          <p:nvPr/>
        </p:nvSpPr>
        <p:spPr>
          <a:xfrm>
            <a:off x="154080" y="762120"/>
            <a:ext cx="7846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rebuchet MS"/>
              </a:rPr>
              <a:t>main character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 or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rebuchet MS"/>
              </a:rPr>
              <a:t>protagonist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who the story is about is introduced – sometimes the antagonist as w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rebuchet MS"/>
              </a:rPr>
              <a:t>setting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:  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where the action takes place as well as the time peri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rebuchet MS"/>
              </a:rPr>
              <a:t>conflict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, tension or problem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: the struggle within the story begins or is introduc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Title 1" descr=""/>
          <p:cNvPicPr/>
          <p:nvPr/>
        </p:nvPicPr>
        <p:blipFill>
          <a:blip r:embed="rId1"/>
          <a:stretch/>
        </p:blipFill>
        <p:spPr>
          <a:xfrm>
            <a:off x="30240" y="60480"/>
            <a:ext cx="7443720" cy="101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1"/>
          <p:cNvSpPr/>
          <p:nvPr/>
        </p:nvSpPr>
        <p:spPr>
          <a:xfrm>
            <a:off x="154080" y="762120"/>
            <a:ext cx="822780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rebuchet MS"/>
              </a:rPr>
              <a:t>conflict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, tension or problem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: is developed through crises or confrontation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Character may be struggling against self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Character against another character (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antagonist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Character against socie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Character against n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Character against G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Without a conflict, there is no sto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Title 1" descr=""/>
          <p:cNvPicPr/>
          <p:nvPr/>
        </p:nvPicPr>
        <p:blipFill>
          <a:blip r:embed="rId1"/>
          <a:stretch/>
        </p:blipFill>
        <p:spPr>
          <a:xfrm>
            <a:off x="30240" y="60480"/>
            <a:ext cx="7443720" cy="101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1"/>
          <p:cNvSpPr/>
          <p:nvPr/>
        </p:nvSpPr>
        <p:spPr>
          <a:xfrm>
            <a:off x="228600" y="380880"/>
            <a:ext cx="7924680" cy="63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ome stories told in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rebuchet MS"/>
              </a:rPr>
              <a:t>chronological order 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(time order), others may switch back and forward in time. When a story starts  in the middle of an action it is called </a:t>
            </a:r>
            <a:r>
              <a:rPr b="0" i="1" lang="en-US" sz="2800" spc="-1" strike="noStrike">
                <a:solidFill>
                  <a:srgbClr val="000000"/>
                </a:solidFill>
                <a:latin typeface="Trebuchet MS"/>
              </a:rPr>
              <a:t>in medias r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rebuchet MS"/>
              </a:rPr>
              <a:t>flashback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:  events that happened earlier than when the story beg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rebuchet MS"/>
              </a:rPr>
              <a:t>flashforward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: events that happen much later than the main time frame; often used at end of traditional story to explain what happens to the charac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Title 1" descr=""/>
          <p:cNvPicPr/>
          <p:nvPr/>
        </p:nvPicPr>
        <p:blipFill>
          <a:blip r:embed="rId1"/>
          <a:stretch/>
        </p:blipFill>
        <p:spPr>
          <a:xfrm>
            <a:off x="30240" y="60480"/>
            <a:ext cx="7443720" cy="101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0T02:04:45Z</dcterms:created>
  <dc:creator>Petra</dc:creator>
  <dc:description/>
  <dc:language>en-US</dc:language>
  <cp:lastModifiedBy>Sally Everson</cp:lastModifiedBy>
  <dcterms:modified xsi:type="dcterms:W3CDTF">2011-06-13T00:29:15Z</dcterms:modified>
  <cp:revision>25</cp:revision>
  <dc:subject/>
  <dc:title>Literary terms &amp; devices</dc:title>
</cp:coreProperties>
</file>